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1D2-B931-4433-8D69-544F780B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11D-92D6-4573-90CF-DD8E1487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83F-0D82-454B-9D2F-7F4E2430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7F7-2D00-4946-B58B-2C070A5B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CB0-82D6-44AD-8146-F0D71DD6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DC1-5DAC-45A1-9D87-94341453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EB5-287E-499C-B7DF-1372972C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810-7BDE-415C-948E-54DB3925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E67-77D5-4741-B443-6343649C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0F1-4B58-4E19-B798-371707C6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FA6-F007-464D-A1BF-15C6FC5C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682-9148-43BC-822F-4B1DBD20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0194-4BCA-47A5-94B8-2B997A0BA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411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84080"/>
            <a:ext cx="69840" cy="29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9188600">
            <a:off x="465120" y="2769840"/>
            <a:ext cx="76122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РОБЛЕМЫ ЭКОНОМИК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9002000">
            <a:off x="4356000" y="4797000"/>
            <a:ext cx="40672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ерева Дарья 10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«Что и в каком количестве производи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ответе на этот вопрос предпочтение отдаётся выпуску определенных товаров и услуг, причём в таких количествах, которые позволяют ограничен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у производства необходимых товаров и услуг приходится решать руководителям различных уровней: от менеджера фирмы до главы правительства. Имеющиеся в их распоряжении денежные средства могут быть очень велики, но в любом случае не безграничны. При утверждении государственного бюджета правительство и парламент должны определить размеры средств, направляемых на социальную помощь, содержание государственного аппарата, образование, науку, оборон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7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вечая на этот вопрос, люди отдают предпочтение определённой технологии (способам) создания тех благ, которые были выбраны при ответе на первый вопро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первый взгляд эффективнее всего использовать новейшие (высокие) технологии. Однако их внедрение потребует больших финансовых затрат, повышения уровня подготовки работников, что отразится в конечном счёте на доходе фирмы. Новая технология может представлять повышенную опасность для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0"/>
            <a:ext cx="8496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производить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107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ешение этого вопроса заключается в выборе способа получения благ потребителями. Блага могут делить поровну, тогда имеет место уравнительный способ распределения, или на основе закона спроса и предложения –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 настоящее время в большинстве стран мира преобладают сложный механизм рыночного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86600">
            <a:off x="9000" y="0"/>
            <a:ext cx="89647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м образом распределять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9:16:59Z</dcterms:created>
  <dc:creator>Оксана</dc:creator>
  <dc:description/>
  <dc:language>en-US</dc:language>
  <cp:lastModifiedBy>Оксана</cp:lastModifiedBy>
  <dcterms:modified xsi:type="dcterms:W3CDTF">2007-01-21T19:47:55Z</dcterms:modified>
  <cp:revision>2</cp:revision>
  <dc:subject/>
  <dc:title>Слайд 1</dc:title>
</cp:coreProperties>
</file>